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D740-AAE7-4CE8-8D09-A249D5B56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81672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A7FB-2E3C-4B9F-B727-EA2E1A75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8600" y="990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816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88600" y="3816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1969-970D-4539-8C18-5EC2193F3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0600" y="9907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4520" y="9907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8167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0600" y="38167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4520" y="38167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4557-6C7A-4F6C-8F98-3598FD335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1E2F-86E1-407D-89BA-5A8F3208F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68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3941-C93F-4163-A490-CD03C011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03F6-B4D8-488A-AF77-FB7C62D7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88600" y="99072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5B86F-EC86-48B2-ACEF-7297B9F4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DE8F-CAF7-4008-8086-EC9C24EB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76320"/>
            <a:ext cx="9144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6782-BD3B-442E-B59C-CD477465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88600" y="99072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680" y="3816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34AD-BD9A-49EE-BC5E-F0D4825E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F21F-8199-46BB-9866-0B9935C9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990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88600" y="3816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95DF4-BCE9-440A-BB80-222FDF5E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990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381672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A24F-747B-466D-944A-266ED643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680" y="381672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F1C0-3132-429D-9B75-E6B3217B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88600" y="990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680" y="3816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88600" y="3816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BC07-1DDF-47D4-9A44-F651DF2C0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0600" y="9907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74520" y="9907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680" y="38167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20600" y="38167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74520" y="38167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68E1D-738F-4368-AD1B-DC1AADFD2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5919-05BB-49CB-A8C3-D6221977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88600" y="99072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B1C4-D644-4D71-BAC8-3F7E2BF0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4C1D-DB0B-4FB2-B8A8-63BBFF7C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76320"/>
            <a:ext cx="9144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9642-6ABB-462B-8FEA-01212804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88600" y="99072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816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58DE-F336-47D3-8C91-FEF40C74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88600" y="990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88600" y="3816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5C55-684A-46CA-80F3-7BEEE733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88600" y="990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81672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6491-B2DE-4C92-9463-6A00110A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d7a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0808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80808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80808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844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912B-E1BC-4409-8416-8F176A62738C}" type="slidenum">
              <a:rPr b="0" lang="en-US" sz="10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d7a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05C0-21AD-4141-9FA3-0F6E1B854701}" type="slidenum">
              <a:rPr b="0" lang="en-US" sz="10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lvl="1" marL="457200" algn="ctr">
              <a:spcBef>
                <a:spcPts val="700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80808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80808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80808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d7a"/>
                </a:solidFill>
                <a:latin typeface="Impact"/>
              </a:rPr>
              <a:t>Oracle Academy</a:t>
            </a:r>
            <a:endParaRPr b="0" lang="en-US" sz="44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83" name=""/>
          <p:cNvSpPr/>
          <p:nvPr/>
        </p:nvSpPr>
        <p:spPr>
          <a:xfrm>
            <a:off x="4040640" y="4952880"/>
            <a:ext cx="348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Prof. Carmen Popes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Oracle Academy Lead Adjunc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LIKE</a:t>
            </a: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ELECT * from employees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WHERE first_name LIKE ’%a%’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afiseaza toate persoanele cu un ’a’ oriunde in prenume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ELECT * from employees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WHERE first_name LIKE ’_ _a%’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afiseaza persoanele cu un a pe a treia pozitie din nume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% - oricate caractere (inclusiv nici unul)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_ - un singur caracter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334120" y="3648240"/>
            <a:ext cx="3581280" cy="32097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LIKE</a:t>
            </a: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ELECT * from employees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WHERE job_title LIKE ’%\_ _ _’    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ESCAPE ’\’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afiseaza persoanele pt. care in job_title, dupa caracterul _ mai exista exact doua caractere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Cu clauza ESCAPE am precizat ca% sau _ precedate de \ vor 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fi tratate ca si caractere 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normale ce trebuie sa 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apara in text nu ca 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wildchar.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ORDER BY</a:t>
            </a: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6553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ELECT * FROM employees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ORDER BY last_name ASC,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                   </a:t>
            </a: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alary DESC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ELECT first_name,salary,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             </a:t>
            </a: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department_id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FROM employees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ORDER BY 2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e sorteaza dupa a doua 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expresie din clauza SELECT, 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adica dupa salary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904000" y="380880"/>
            <a:ext cx="3240000" cy="5943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d7a"/>
                </a:solidFill>
                <a:latin typeface="Impact"/>
              </a:rPr>
              <a:t>Forma generala a comenzii SELECT</a:t>
            </a: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SELECT expresii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FROM tabele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WHERE conditii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In clauza select pot aparea coloane, sau expresii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Ordinea operatorilor: * / + -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Operatorii logici: AND, OR (in aceasta ordine)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BETWEEN</a:t>
            </a: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SELECT * from employees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WHERE 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department_id BETWEEN 10 AND 30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Wingdings"/>
                <a:ea typeface="Wingdings"/>
              </a:rPr>
              <a:t>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SELECT * from employees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WHERE 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department_id &gt;=10 AND 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department_id&lt;=30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Departamentul 20 </a:t>
            </a: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ESTE</a:t>
            </a: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 afisat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IN</a:t>
            </a: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SELECT * from employees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WHERE 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department_id IN (10,30)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Wingdings"/>
                <a:ea typeface="Wingdings"/>
              </a:rPr>
              <a:t>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SELECT * from employees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WHERE 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department_id=10 OR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department_id=30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Departamentul 20 </a:t>
            </a: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NU ESTE</a:t>
            </a: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 afisat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NULL</a:t>
            </a: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5+NULL =&gt; NULL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La ordonare crescatoare valorile NULL sunt puse la sfarsit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La ordonare descrescatoare NULL apare la inceput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ALIAS DE COLOANA (AS)</a:t>
            </a: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ELECT salary+0.25*salary 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FROM employees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ELECT salary+0.25*salary 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AS ”New Salary”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FROM employees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ELECT salary+0.25*salary 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AS New Salary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FROM employees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=&gt; 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EROARE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781680" y="457200"/>
            <a:ext cx="1524240" cy="2190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943600" y="2514600"/>
            <a:ext cx="876240" cy="18860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ALIAS DE COLOANA (AS)</a:t>
            </a: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ELECT first_name||’ ’||last_name 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AS  Numele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FROM employees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ELECT first_name||’ ’||last_name 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AS ”Numele”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FROM employees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867280" y="4038480"/>
            <a:ext cx="1422360" cy="259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761240" y="838080"/>
            <a:ext cx="1382760" cy="2438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ALIAS DE COLOANA (AS)</a:t>
            </a: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Ghilimelele la alias sunt obligatorii cand: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Aliasul e compus din doua sau mai multe cuvinte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Dorim ca aliasul sa fie scriscu litere mici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DESCRIBE</a:t>
            </a: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3889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17:43:37Z</dcterms:created>
  <dc:creator>kome</dc:creator>
  <dc:description/>
  <cp:keywords/>
  <dc:language>en-US</dc:language>
  <cp:lastModifiedBy>kome</cp:lastModifiedBy>
  <dcterms:modified xsi:type="dcterms:W3CDTF">2007-09-18T18:01:31Z</dcterms:modified>
  <cp:revision>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2941033</vt:lpwstr>
  </property>
</Properties>
</file>